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B5D7-8622-4690-A12C-77820D459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4C4C-E96F-4EA3-83B9-563CFEC255D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F8C6-3D4A-4106-85A5-CCA22205D76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013E-1701-445B-B9D7-A08CD493D47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118B-8507-4314-9267-9A361B77BC9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5BD1F-3F42-4E13-9F89-6BD5A920B0C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E1EA5-EEC5-46E3-9840-A24AB2AAA44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33BB-8E34-45FC-9280-4983643C290C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6D7C-A5C7-468E-8000-A97E003D484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43C5-2881-43DB-92FB-839D618104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15B2-0D2B-4649-B164-3C822CD6C21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7145-4078-493C-8102-D55E5B12E9B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481B-C374-4CAD-85E6-E370F21C491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9309-F1ED-4776-A296-9109C9261E5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28CC-9F23-40B6-BE73-C2D5EED786B1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AAC2-F071-4CC9-858F-924E3A1A056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3E6E-3BB8-452C-B1C9-E309EF6B103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73D5-766C-4E50-8754-B0FF24B59E5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A2E4-61F4-4E7F-B768-EA7CDCC3D7B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F9F5-5CC5-4A7E-83B6-5E6E807585C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curriculumcentral.its.hawaii.edu:8080/central/core/cas.jsp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urriculum Central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Kapi‘olani Community College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University of Hawai‘i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9749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ok at what’s ther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d703b"/>
                </a:solidFill>
                <a:uFillTx/>
                <a:latin typeface="Microsoft Sans Serif"/>
                <a:hlinkClick r:id="rId1"/>
              </a:rPr>
              <a:t>http://curriculumcentral.its.hawaii.edu:8080/central/core/cas.jsp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Email Aler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Picture 2" descr="C:\Users\Dik\Downloads\email_message.tiff"/>
          <p:cNvPicPr/>
          <p:nvPr/>
        </p:nvPicPr>
        <p:blipFill>
          <a:blip r:embed="rId1"/>
          <a:stretch/>
        </p:blipFill>
        <p:spPr>
          <a:xfrm>
            <a:off x="2448000" y="2924280"/>
            <a:ext cx="4400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gin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Picture 2" descr="C:\Users\Dik\Downloads\CC_login.tiff"/>
          <p:cNvPicPr/>
          <p:nvPr/>
        </p:nvPicPr>
        <p:blipFill>
          <a:blip r:embed="rId1"/>
          <a:stretch/>
        </p:blipFill>
        <p:spPr>
          <a:xfrm>
            <a:off x="2014560" y="2352600"/>
            <a:ext cx="5267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Dik\Downloads\CC_UH_login.tiff"/>
          <p:cNvPicPr/>
          <p:nvPr/>
        </p:nvPicPr>
        <p:blipFill>
          <a:blip r:embed="rId2"/>
          <a:stretch/>
        </p:blipFill>
        <p:spPr>
          <a:xfrm>
            <a:off x="1360440" y="2133720"/>
            <a:ext cx="657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4538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Dik\Downloads\MyTasks_sample.png"/>
          <p:cNvPicPr/>
          <p:nvPr/>
        </p:nvPicPr>
        <p:blipFill>
          <a:blip r:embed="rId2"/>
          <a:stretch/>
        </p:blipFill>
        <p:spPr>
          <a:xfrm>
            <a:off x="1886040" y="1214280"/>
            <a:ext cx="5371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Dik\Downloads\MyTasks_demo.tiff"/>
          <p:cNvPicPr/>
          <p:nvPr/>
        </p:nvPicPr>
        <p:blipFill>
          <a:blip r:embed="rId2"/>
          <a:stretch/>
        </p:blipFill>
        <p:spPr>
          <a:xfrm>
            <a:off x="581040" y="1738440"/>
            <a:ext cx="7981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Dik\Downloads\CC_Review.tiff"/>
          <p:cNvPicPr/>
          <p:nvPr/>
        </p:nvPicPr>
        <p:blipFill>
          <a:blip r:embed="rId2"/>
          <a:stretch/>
        </p:blipFill>
        <p:spPr>
          <a:xfrm>
            <a:off x="785880" y="547560"/>
            <a:ext cx="75722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Be Careful …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Central is not perfec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rustration gets you nowhere fas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atience is needed and appreciate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ake it one step at a time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eep moving forwar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Peer into Your Crystal Ball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URRICULUM CENTRAL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RIDAY WORKSHOPS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NOV. 18 AND DEC. 2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1:00 – 4:30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MAMANE 101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OME WHENEVER YOU WANT, STAY AS LONG AS YOU WANT (UP UNTIL 4:30!!!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MAHALO!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designed to be the official archive and repository for curricular actions and informatio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 designed to do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rovide transparency to the 10 campus courses and program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llow you to see any course @ any campus @ any time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can it do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a source for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e catalog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ourse conte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ranscript evalu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Official course inform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o is using it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in use or in development at 6 out of 10 UH campuse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t KapCC, Curriculum Central is in use for course review, revision, and curriculum approval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’s in it for You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ystal ball information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uide students more accurately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Be more akamai about upcoming curricular activitie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rve as a student advocate in the review proces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Your Role in Review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Get involved at the ground level of course outline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’s coming for the student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 changes are going to be made and whe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Review Process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Diagram 4" descr=""/>
          <p:cNvPicPr/>
          <p:nvPr/>
        </p:nvPicPr>
        <p:blipFill>
          <a:blip r:embed="rId1"/>
          <a:stretch/>
        </p:blipFill>
        <p:spPr>
          <a:xfrm>
            <a:off x="146160" y="1596960"/>
            <a:ext cx="83325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Approval Proces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1"/>
          <a:stretch/>
        </p:blipFill>
        <p:spPr>
          <a:xfrm>
            <a:off x="603360" y="2054160"/>
            <a:ext cx="7327800" cy="4280040"/>
          </a:xfrm>
          <a:prstGeom prst="rect">
            <a:avLst/>
          </a:prstGeom>
          <a:ln w="0">
            <a:noFill/>
          </a:ln>
        </p:spPr>
      </p:pic>
      <p:sp>
        <p:nvSpPr>
          <p:cNvPr id="102" name="Flowchart: Alternate Process 4"/>
          <p:cNvSpPr/>
          <p:nvPr/>
        </p:nvSpPr>
        <p:spPr>
          <a:xfrm>
            <a:off x="1219320" y="4038480"/>
            <a:ext cx="380880" cy="381240"/>
          </a:xfrm>
          <a:prstGeom prst="flowChartAlternateProcess">
            <a:avLst/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"/>
              </a:rPr>
              <a:t>MKC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Down Arrow 5"/>
          <p:cNvSpPr/>
          <p:nvPr/>
        </p:nvSpPr>
        <p:spPr>
          <a:xfrm>
            <a:off x="1295280" y="3048120"/>
            <a:ext cx="152640" cy="914400"/>
          </a:xfrm>
          <a:prstGeom prst="down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0:40:47Z</dcterms:created>
  <dc:creator>Dik</dc:creator>
  <dc:description/>
  <dc:language>en-US</dc:language>
  <cp:lastModifiedBy>Dik</cp:lastModifiedBy>
  <dcterms:modified xsi:type="dcterms:W3CDTF">2011-11-16T01:26:09Z</dcterms:modified>
  <cp:revision>16</cp:revision>
  <dc:subject/>
  <dc:title>Name of presentation</dc:title>
</cp:coreProperties>
</file>